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BDA1-4947-4EF4-9304-5495D85C6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82160" y="3956760"/>
            <a:ext cx="8813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C913-A274-4D6D-9B56-FF9C10CC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983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82160" y="395676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98360" y="395676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E274-45A3-455C-BCB0-859E52752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162240" y="152388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142320" y="152388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82160" y="395676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162240" y="395676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142320" y="395676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2794-DE61-4A16-B728-E9C87FE24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F41D-C8B6-4644-A7CB-064B97E49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937C-3219-4E09-8167-115E9B17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141E-5748-4768-87CB-DED77A0B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430092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8360" y="1523880"/>
            <a:ext cx="430092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9939-9774-4589-B402-42525427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585A-F743-476B-9C6E-CF4FB756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93680" y="228240"/>
            <a:ext cx="88027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1E96-A91E-4538-AA9A-F4E8139A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98360" y="1523880"/>
            <a:ext cx="430092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82160" y="395676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A8C42-BC2C-4C8D-BE3C-D2C22E30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272E-3986-40CF-AF58-1E64D3893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430092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83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98360" y="395676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BBB2-6B07-4A35-ADA5-E18B86B8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83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82160" y="3956760"/>
            <a:ext cx="8813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56694-A89F-42C5-8EE3-47687FD2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82160" y="3956760"/>
            <a:ext cx="8813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B76A-B305-421F-BE94-08021554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983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82160" y="395676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98360" y="395676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635A-9731-4877-A6C7-427DB46A9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162240" y="152388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142320" y="152388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82160" y="395676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162240" y="395676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142320" y="395676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F1447-B741-49EE-827C-87A0F4E30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7CF8-FF6D-4B70-8A8C-09C95931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430092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8360" y="1523880"/>
            <a:ext cx="430092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3783-A655-4479-A677-7EC6B5C3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F28B-900F-4271-BAD8-E61F9C28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93680" y="228240"/>
            <a:ext cx="88027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E5FB-2795-4858-88B7-B456E2A1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8360" y="1523880"/>
            <a:ext cx="430092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82160" y="395676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375E-4D63-4841-8BB9-AF68E09D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430092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983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98360" y="395676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2655-F5ED-4C05-8608-839B2F91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983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82160" y="3956760"/>
            <a:ext cx="8813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0B04-E182-4DA1-8E30-26ED2437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2225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91960" y="6248520"/>
            <a:ext cx="3390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001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910720" y="141120"/>
            <a:ext cx="54000" cy="540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190440" y="138240"/>
            <a:ext cx="381240" cy="380880"/>
            <a:chOff x="190440" y="138240"/>
            <a:chExt cx="381240" cy="380880"/>
          </a:xfrm>
        </p:grpSpPr>
        <p:sp>
          <p:nvSpPr>
            <p:cNvPr id="7" name=""/>
            <p:cNvSpPr/>
            <p:nvPr/>
          </p:nvSpPr>
          <p:spPr>
            <a:xfrm>
              <a:off x="190440" y="1382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3300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1000" y="163440"/>
              <a:ext cx="195120" cy="131760"/>
            </a:xfrm>
            <a:custGeom>
              <a:avLst/>
              <a:gdLst/>
              <a:ahLst/>
              <a:rect l="l" t="t" r="r" b="b"/>
              <a:pathLst>
                <a:path w="123" h="83">
                  <a:moveTo>
                    <a:pt x="0" y="3"/>
                  </a:moveTo>
                  <a:lnTo>
                    <a:pt x="44" y="0"/>
                  </a:lnTo>
                  <a:lnTo>
                    <a:pt x="60" y="7"/>
                  </a:lnTo>
                  <a:lnTo>
                    <a:pt x="74" y="13"/>
                  </a:lnTo>
                  <a:lnTo>
                    <a:pt x="95" y="25"/>
                  </a:lnTo>
                  <a:lnTo>
                    <a:pt x="107" y="37"/>
                  </a:lnTo>
                  <a:lnTo>
                    <a:pt x="117" y="53"/>
                  </a:lnTo>
                  <a:lnTo>
                    <a:pt x="122" y="82"/>
                  </a:lnTo>
                  <a:lnTo>
                    <a:pt x="116" y="65"/>
                  </a:lnTo>
                  <a:lnTo>
                    <a:pt x="105" y="49"/>
                  </a:lnTo>
                  <a:lnTo>
                    <a:pt x="95" y="38"/>
                  </a:lnTo>
                  <a:lnTo>
                    <a:pt x="78" y="23"/>
                  </a:lnTo>
                  <a:lnTo>
                    <a:pt x="48" y="8"/>
                  </a:lnTo>
                  <a:lnTo>
                    <a:pt x="26" y="5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19240" y="365040"/>
              <a:ext cx="210960" cy="141480"/>
            </a:xfrm>
            <a:custGeom>
              <a:avLst/>
              <a:gdLst/>
              <a:ahLst/>
              <a:rect l="l" t="t" r="r" b="b"/>
              <a:pathLst>
                <a:path w="133" h="89">
                  <a:moveTo>
                    <a:pt x="132" y="80"/>
                  </a:moveTo>
                  <a:lnTo>
                    <a:pt x="99" y="82"/>
                  </a:lnTo>
                  <a:lnTo>
                    <a:pt x="76" y="79"/>
                  </a:lnTo>
                  <a:lnTo>
                    <a:pt x="57" y="71"/>
                  </a:lnTo>
                  <a:lnTo>
                    <a:pt x="39" y="58"/>
                  </a:lnTo>
                  <a:lnTo>
                    <a:pt x="27" y="49"/>
                  </a:lnTo>
                  <a:lnTo>
                    <a:pt x="20" y="40"/>
                  </a:lnTo>
                  <a:lnTo>
                    <a:pt x="0" y="0"/>
                  </a:lnTo>
                  <a:lnTo>
                    <a:pt x="6" y="27"/>
                  </a:lnTo>
                  <a:lnTo>
                    <a:pt x="15" y="46"/>
                  </a:lnTo>
                  <a:lnTo>
                    <a:pt x="30" y="60"/>
                  </a:lnTo>
                  <a:lnTo>
                    <a:pt x="50" y="73"/>
                  </a:lnTo>
                  <a:lnTo>
                    <a:pt x="72" y="85"/>
                  </a:lnTo>
                  <a:lnTo>
                    <a:pt x="95" y="88"/>
                  </a:lnTo>
                  <a:lnTo>
                    <a:pt x="118" y="86"/>
                  </a:lnTo>
                  <a:lnTo>
                    <a:pt x="132" y="80"/>
                  </a:ln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" name=""/>
          <p:cNvGrpSpPr/>
          <p:nvPr/>
        </p:nvGrpSpPr>
        <p:grpSpPr>
          <a:xfrm>
            <a:off x="8648640" y="163440"/>
            <a:ext cx="381240" cy="381240"/>
            <a:chOff x="8648640" y="163440"/>
            <a:chExt cx="381240" cy="381240"/>
          </a:xfrm>
        </p:grpSpPr>
        <p:sp>
          <p:nvSpPr>
            <p:cNvPr id="11" name=""/>
            <p:cNvSpPr/>
            <p:nvPr/>
          </p:nvSpPr>
          <p:spPr>
            <a:xfrm>
              <a:off x="8648640" y="16344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3300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809200" y="189000"/>
              <a:ext cx="195120" cy="131760"/>
            </a:xfrm>
            <a:custGeom>
              <a:avLst/>
              <a:gdLst/>
              <a:ahLst/>
              <a:rect l="l" t="t" r="r" b="b"/>
              <a:pathLst>
                <a:path w="123" h="83">
                  <a:moveTo>
                    <a:pt x="0" y="3"/>
                  </a:moveTo>
                  <a:lnTo>
                    <a:pt x="44" y="0"/>
                  </a:lnTo>
                  <a:lnTo>
                    <a:pt x="60" y="7"/>
                  </a:lnTo>
                  <a:lnTo>
                    <a:pt x="74" y="13"/>
                  </a:lnTo>
                  <a:lnTo>
                    <a:pt x="95" y="25"/>
                  </a:lnTo>
                  <a:lnTo>
                    <a:pt x="107" y="37"/>
                  </a:lnTo>
                  <a:lnTo>
                    <a:pt x="117" y="53"/>
                  </a:lnTo>
                  <a:lnTo>
                    <a:pt x="122" y="82"/>
                  </a:lnTo>
                  <a:lnTo>
                    <a:pt x="116" y="65"/>
                  </a:lnTo>
                  <a:lnTo>
                    <a:pt x="105" y="49"/>
                  </a:lnTo>
                  <a:lnTo>
                    <a:pt x="95" y="38"/>
                  </a:lnTo>
                  <a:lnTo>
                    <a:pt x="78" y="23"/>
                  </a:lnTo>
                  <a:lnTo>
                    <a:pt x="48" y="8"/>
                  </a:lnTo>
                  <a:lnTo>
                    <a:pt x="26" y="5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77440" y="390600"/>
              <a:ext cx="210960" cy="141120"/>
            </a:xfrm>
            <a:custGeom>
              <a:avLst/>
              <a:gdLst/>
              <a:ahLst/>
              <a:rect l="l" t="t" r="r" b="b"/>
              <a:pathLst>
                <a:path w="133" h="89">
                  <a:moveTo>
                    <a:pt x="132" y="80"/>
                  </a:moveTo>
                  <a:lnTo>
                    <a:pt x="99" y="82"/>
                  </a:lnTo>
                  <a:lnTo>
                    <a:pt x="76" y="79"/>
                  </a:lnTo>
                  <a:lnTo>
                    <a:pt x="57" y="71"/>
                  </a:lnTo>
                  <a:lnTo>
                    <a:pt x="39" y="58"/>
                  </a:lnTo>
                  <a:lnTo>
                    <a:pt x="27" y="49"/>
                  </a:lnTo>
                  <a:lnTo>
                    <a:pt x="20" y="40"/>
                  </a:lnTo>
                  <a:lnTo>
                    <a:pt x="0" y="0"/>
                  </a:lnTo>
                  <a:lnTo>
                    <a:pt x="6" y="27"/>
                  </a:lnTo>
                  <a:lnTo>
                    <a:pt x="15" y="46"/>
                  </a:lnTo>
                  <a:lnTo>
                    <a:pt x="30" y="60"/>
                  </a:lnTo>
                  <a:lnTo>
                    <a:pt x="50" y="73"/>
                  </a:lnTo>
                  <a:lnTo>
                    <a:pt x="72" y="85"/>
                  </a:lnTo>
                  <a:lnTo>
                    <a:pt x="95" y="88"/>
                  </a:lnTo>
                  <a:lnTo>
                    <a:pt x="118" y="86"/>
                  </a:lnTo>
                  <a:lnTo>
                    <a:pt x="132" y="80"/>
                  </a:ln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8661240" y="6310440"/>
            <a:ext cx="381240" cy="380880"/>
            <a:chOff x="8661240" y="6310440"/>
            <a:chExt cx="381240" cy="380880"/>
          </a:xfrm>
        </p:grpSpPr>
        <p:sp>
          <p:nvSpPr>
            <p:cNvPr id="15" name=""/>
            <p:cNvSpPr/>
            <p:nvPr/>
          </p:nvSpPr>
          <p:spPr>
            <a:xfrm>
              <a:off x="8661240" y="63104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3300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821800" y="6335640"/>
              <a:ext cx="195120" cy="131760"/>
            </a:xfrm>
            <a:custGeom>
              <a:avLst/>
              <a:gdLst/>
              <a:ahLst/>
              <a:rect l="l" t="t" r="r" b="b"/>
              <a:pathLst>
                <a:path w="123" h="83">
                  <a:moveTo>
                    <a:pt x="0" y="3"/>
                  </a:moveTo>
                  <a:lnTo>
                    <a:pt x="44" y="0"/>
                  </a:lnTo>
                  <a:lnTo>
                    <a:pt x="60" y="7"/>
                  </a:lnTo>
                  <a:lnTo>
                    <a:pt x="74" y="13"/>
                  </a:lnTo>
                  <a:lnTo>
                    <a:pt x="95" y="25"/>
                  </a:lnTo>
                  <a:lnTo>
                    <a:pt x="107" y="37"/>
                  </a:lnTo>
                  <a:lnTo>
                    <a:pt x="117" y="53"/>
                  </a:lnTo>
                  <a:lnTo>
                    <a:pt x="122" y="82"/>
                  </a:lnTo>
                  <a:lnTo>
                    <a:pt x="116" y="65"/>
                  </a:lnTo>
                  <a:lnTo>
                    <a:pt x="105" y="49"/>
                  </a:lnTo>
                  <a:lnTo>
                    <a:pt x="95" y="38"/>
                  </a:lnTo>
                  <a:lnTo>
                    <a:pt x="78" y="23"/>
                  </a:lnTo>
                  <a:lnTo>
                    <a:pt x="48" y="8"/>
                  </a:lnTo>
                  <a:lnTo>
                    <a:pt x="26" y="5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0040" y="6537240"/>
              <a:ext cx="210960" cy="141480"/>
            </a:xfrm>
            <a:custGeom>
              <a:avLst/>
              <a:gdLst/>
              <a:ahLst/>
              <a:rect l="l" t="t" r="r" b="b"/>
              <a:pathLst>
                <a:path w="133" h="89">
                  <a:moveTo>
                    <a:pt x="132" y="80"/>
                  </a:moveTo>
                  <a:lnTo>
                    <a:pt x="99" y="82"/>
                  </a:lnTo>
                  <a:lnTo>
                    <a:pt x="76" y="79"/>
                  </a:lnTo>
                  <a:lnTo>
                    <a:pt x="57" y="71"/>
                  </a:lnTo>
                  <a:lnTo>
                    <a:pt x="39" y="58"/>
                  </a:lnTo>
                  <a:lnTo>
                    <a:pt x="27" y="49"/>
                  </a:lnTo>
                  <a:lnTo>
                    <a:pt x="20" y="40"/>
                  </a:lnTo>
                  <a:lnTo>
                    <a:pt x="0" y="0"/>
                  </a:lnTo>
                  <a:lnTo>
                    <a:pt x="6" y="27"/>
                  </a:lnTo>
                  <a:lnTo>
                    <a:pt x="15" y="46"/>
                  </a:lnTo>
                  <a:lnTo>
                    <a:pt x="30" y="60"/>
                  </a:lnTo>
                  <a:lnTo>
                    <a:pt x="50" y="73"/>
                  </a:lnTo>
                  <a:lnTo>
                    <a:pt x="72" y="85"/>
                  </a:lnTo>
                  <a:lnTo>
                    <a:pt x="95" y="88"/>
                  </a:lnTo>
                  <a:lnTo>
                    <a:pt x="118" y="86"/>
                  </a:lnTo>
                  <a:lnTo>
                    <a:pt x="132" y="80"/>
                  </a:ln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" name=""/>
          <p:cNvGrpSpPr/>
          <p:nvPr/>
        </p:nvGrpSpPr>
        <p:grpSpPr>
          <a:xfrm>
            <a:off x="177840" y="6335640"/>
            <a:ext cx="380880" cy="381240"/>
            <a:chOff x="177840" y="6335640"/>
            <a:chExt cx="380880" cy="381240"/>
          </a:xfrm>
        </p:grpSpPr>
        <p:sp>
          <p:nvSpPr>
            <p:cNvPr id="19" name=""/>
            <p:cNvSpPr/>
            <p:nvPr/>
          </p:nvSpPr>
          <p:spPr>
            <a:xfrm>
              <a:off x="177840" y="633564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3300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38040" y="6361200"/>
              <a:ext cx="195480" cy="131760"/>
            </a:xfrm>
            <a:custGeom>
              <a:avLst/>
              <a:gdLst/>
              <a:ahLst/>
              <a:rect l="l" t="t" r="r" b="b"/>
              <a:pathLst>
                <a:path w="123" h="83">
                  <a:moveTo>
                    <a:pt x="0" y="3"/>
                  </a:moveTo>
                  <a:lnTo>
                    <a:pt x="44" y="0"/>
                  </a:lnTo>
                  <a:lnTo>
                    <a:pt x="60" y="7"/>
                  </a:lnTo>
                  <a:lnTo>
                    <a:pt x="74" y="13"/>
                  </a:lnTo>
                  <a:lnTo>
                    <a:pt x="95" y="25"/>
                  </a:lnTo>
                  <a:lnTo>
                    <a:pt x="107" y="37"/>
                  </a:lnTo>
                  <a:lnTo>
                    <a:pt x="117" y="53"/>
                  </a:lnTo>
                  <a:lnTo>
                    <a:pt x="122" y="82"/>
                  </a:lnTo>
                  <a:lnTo>
                    <a:pt x="116" y="65"/>
                  </a:lnTo>
                  <a:lnTo>
                    <a:pt x="105" y="49"/>
                  </a:lnTo>
                  <a:lnTo>
                    <a:pt x="95" y="38"/>
                  </a:lnTo>
                  <a:lnTo>
                    <a:pt x="78" y="23"/>
                  </a:lnTo>
                  <a:lnTo>
                    <a:pt x="48" y="8"/>
                  </a:lnTo>
                  <a:lnTo>
                    <a:pt x="26" y="5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06280" y="6562800"/>
              <a:ext cx="211320" cy="141120"/>
            </a:xfrm>
            <a:custGeom>
              <a:avLst/>
              <a:gdLst/>
              <a:ahLst/>
              <a:rect l="l" t="t" r="r" b="b"/>
              <a:pathLst>
                <a:path w="133" h="89">
                  <a:moveTo>
                    <a:pt x="132" y="80"/>
                  </a:moveTo>
                  <a:lnTo>
                    <a:pt x="99" y="82"/>
                  </a:lnTo>
                  <a:lnTo>
                    <a:pt x="76" y="79"/>
                  </a:lnTo>
                  <a:lnTo>
                    <a:pt x="57" y="71"/>
                  </a:lnTo>
                  <a:lnTo>
                    <a:pt x="39" y="58"/>
                  </a:lnTo>
                  <a:lnTo>
                    <a:pt x="27" y="49"/>
                  </a:lnTo>
                  <a:lnTo>
                    <a:pt x="20" y="40"/>
                  </a:lnTo>
                  <a:lnTo>
                    <a:pt x="0" y="0"/>
                  </a:lnTo>
                  <a:lnTo>
                    <a:pt x="6" y="27"/>
                  </a:lnTo>
                  <a:lnTo>
                    <a:pt x="15" y="46"/>
                  </a:lnTo>
                  <a:lnTo>
                    <a:pt x="30" y="60"/>
                  </a:lnTo>
                  <a:lnTo>
                    <a:pt x="50" y="73"/>
                  </a:lnTo>
                  <a:lnTo>
                    <a:pt x="72" y="85"/>
                  </a:lnTo>
                  <a:lnTo>
                    <a:pt x="95" y="88"/>
                  </a:lnTo>
                  <a:lnTo>
                    <a:pt x="118" y="86"/>
                  </a:lnTo>
                  <a:lnTo>
                    <a:pt x="132" y="80"/>
                  </a:ln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dt" idx="4"/>
          </p:nvPr>
        </p:nvSpPr>
        <p:spPr>
          <a:xfrm>
            <a:off x="711000" y="6264360"/>
            <a:ext cx="246348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ftr" idx="5"/>
          </p:nvPr>
        </p:nvSpPr>
        <p:spPr>
          <a:xfrm>
            <a:off x="3314520" y="6251040"/>
            <a:ext cx="2641320" cy="54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Num" idx="6"/>
          </p:nvPr>
        </p:nvSpPr>
        <p:spPr>
          <a:xfrm>
            <a:off x="6108480" y="6251040"/>
            <a:ext cx="2374920" cy="54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77840" y="152280"/>
            <a:ext cx="507960" cy="470160"/>
            <a:chOff x="177840" y="152280"/>
            <a:chExt cx="507960" cy="470160"/>
          </a:xfrm>
        </p:grpSpPr>
        <p:sp>
          <p:nvSpPr>
            <p:cNvPr id="62" name=""/>
            <p:cNvSpPr/>
            <p:nvPr/>
          </p:nvSpPr>
          <p:spPr>
            <a:xfrm>
              <a:off x="177840" y="152280"/>
              <a:ext cx="507960" cy="4701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5520" y="160200"/>
              <a:ext cx="253800" cy="238320"/>
            </a:xfrm>
            <a:custGeom>
              <a:avLst/>
              <a:gdLst/>
              <a:ahLst/>
              <a:rect l="l" t="t" r="r" b="b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0440" y="369720"/>
              <a:ext cx="250920" cy="239760"/>
            </a:xfrm>
            <a:custGeom>
              <a:avLst/>
              <a:gdLst/>
              <a:ahLst/>
              <a:rect l="l" t="t" r="r" b="b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895480" y="101520"/>
            <a:ext cx="507960" cy="470160"/>
            <a:chOff x="2895480" y="101520"/>
            <a:chExt cx="507960" cy="470160"/>
          </a:xfrm>
        </p:grpSpPr>
        <p:sp>
          <p:nvSpPr>
            <p:cNvPr id="66" name=""/>
            <p:cNvSpPr/>
            <p:nvPr/>
          </p:nvSpPr>
          <p:spPr>
            <a:xfrm>
              <a:off x="2895480" y="101520"/>
              <a:ext cx="507960" cy="4701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43160" y="109440"/>
              <a:ext cx="254160" cy="238320"/>
            </a:xfrm>
            <a:custGeom>
              <a:avLst/>
              <a:gdLst/>
              <a:ahLst/>
              <a:rect l="l" t="t" r="r" b="b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908440" y="318960"/>
              <a:ext cx="250560" cy="239760"/>
            </a:xfrm>
            <a:custGeom>
              <a:avLst/>
              <a:gdLst/>
              <a:ahLst/>
              <a:rect l="l" t="t" r="r" b="b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88920" y="6299280"/>
            <a:ext cx="507960" cy="469800"/>
            <a:chOff x="88920" y="6299280"/>
            <a:chExt cx="507960" cy="469800"/>
          </a:xfrm>
        </p:grpSpPr>
        <p:sp>
          <p:nvSpPr>
            <p:cNvPr id="70" name=""/>
            <p:cNvSpPr/>
            <p:nvPr/>
          </p:nvSpPr>
          <p:spPr>
            <a:xfrm>
              <a:off x="88920" y="6299280"/>
              <a:ext cx="507960" cy="4698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36600" y="6307200"/>
              <a:ext cx="253800" cy="237960"/>
            </a:xfrm>
            <a:custGeom>
              <a:avLst/>
              <a:gdLst/>
              <a:ahLst/>
              <a:rect l="l" t="t" r="r" b="b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1520" y="6516720"/>
              <a:ext cx="250920" cy="239760"/>
            </a:xfrm>
            <a:custGeom>
              <a:avLst/>
              <a:gdLst/>
              <a:ahLst/>
              <a:rect l="l" t="t" r="r" b="b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8483760" y="139680"/>
            <a:ext cx="507960" cy="469800"/>
            <a:chOff x="8483760" y="139680"/>
            <a:chExt cx="507960" cy="469800"/>
          </a:xfrm>
        </p:grpSpPr>
        <p:sp>
          <p:nvSpPr>
            <p:cNvPr id="74" name=""/>
            <p:cNvSpPr/>
            <p:nvPr/>
          </p:nvSpPr>
          <p:spPr>
            <a:xfrm>
              <a:off x="8483760" y="139680"/>
              <a:ext cx="507960" cy="4698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731080" y="147600"/>
              <a:ext cx="254160" cy="238320"/>
            </a:xfrm>
            <a:custGeom>
              <a:avLst/>
              <a:gdLst/>
              <a:ahLst/>
              <a:rect l="l" t="t" r="r" b="b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496360" y="357120"/>
              <a:ext cx="250920" cy="239760"/>
            </a:xfrm>
            <a:custGeom>
              <a:avLst/>
              <a:gdLst/>
              <a:ahLst/>
              <a:rect l="l" t="t" r="r" b="b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8585280" y="6324480"/>
            <a:ext cx="507960" cy="470160"/>
            <a:chOff x="8585280" y="6324480"/>
            <a:chExt cx="507960" cy="470160"/>
          </a:xfrm>
        </p:grpSpPr>
        <p:sp>
          <p:nvSpPr>
            <p:cNvPr id="78" name=""/>
            <p:cNvSpPr/>
            <p:nvPr/>
          </p:nvSpPr>
          <p:spPr>
            <a:xfrm>
              <a:off x="8585280" y="6324480"/>
              <a:ext cx="507960" cy="4701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832960" y="6332400"/>
              <a:ext cx="253800" cy="238320"/>
            </a:xfrm>
            <a:custGeom>
              <a:avLst/>
              <a:gdLst/>
              <a:ahLst/>
              <a:rect l="l" t="t" r="r" b="b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97880" y="6541920"/>
              <a:ext cx="250920" cy="239760"/>
            </a:xfrm>
            <a:custGeom>
              <a:avLst/>
              <a:gdLst/>
              <a:ahLst/>
              <a:rect l="l" t="t" r="r" b="b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626080" y="114480"/>
            <a:ext cx="507960" cy="469800"/>
            <a:chOff x="5626080" y="114480"/>
            <a:chExt cx="507960" cy="469800"/>
          </a:xfrm>
        </p:grpSpPr>
        <p:sp>
          <p:nvSpPr>
            <p:cNvPr id="82" name=""/>
            <p:cNvSpPr/>
            <p:nvPr/>
          </p:nvSpPr>
          <p:spPr>
            <a:xfrm>
              <a:off x="5626080" y="114480"/>
              <a:ext cx="507960" cy="4698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873760" y="122400"/>
              <a:ext cx="254160" cy="237960"/>
            </a:xfrm>
            <a:custGeom>
              <a:avLst/>
              <a:gdLst/>
              <a:ahLst/>
              <a:rect l="l" t="t" r="r" b="b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638680" y="331920"/>
              <a:ext cx="250920" cy="239760"/>
            </a:xfrm>
            <a:custGeom>
              <a:avLst/>
              <a:gdLst/>
              <a:ahLst/>
              <a:rect l="l" t="t" r="r" b="b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88920" y="3200400"/>
            <a:ext cx="507960" cy="469800"/>
            <a:chOff x="88920" y="3200400"/>
            <a:chExt cx="507960" cy="469800"/>
          </a:xfrm>
        </p:grpSpPr>
        <p:sp>
          <p:nvSpPr>
            <p:cNvPr id="86" name=""/>
            <p:cNvSpPr/>
            <p:nvPr/>
          </p:nvSpPr>
          <p:spPr>
            <a:xfrm>
              <a:off x="88920" y="3200400"/>
              <a:ext cx="507960" cy="4698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36600" y="3208320"/>
              <a:ext cx="253800" cy="238320"/>
            </a:xfrm>
            <a:custGeom>
              <a:avLst/>
              <a:gdLst/>
              <a:ahLst/>
              <a:rect l="l" t="t" r="r" b="b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1520" y="3417840"/>
              <a:ext cx="250920" cy="239760"/>
            </a:xfrm>
            <a:custGeom>
              <a:avLst/>
              <a:gdLst/>
              <a:ahLst/>
              <a:rect l="l" t="t" r="r" b="b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8559720" y="3327480"/>
            <a:ext cx="507960" cy="469800"/>
            <a:chOff x="8559720" y="3327480"/>
            <a:chExt cx="507960" cy="469800"/>
          </a:xfrm>
        </p:grpSpPr>
        <p:sp>
          <p:nvSpPr>
            <p:cNvPr id="90" name=""/>
            <p:cNvSpPr/>
            <p:nvPr/>
          </p:nvSpPr>
          <p:spPr>
            <a:xfrm>
              <a:off x="8559720" y="3327480"/>
              <a:ext cx="507960" cy="4698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807400" y="3335400"/>
              <a:ext cx="254160" cy="237960"/>
            </a:xfrm>
            <a:custGeom>
              <a:avLst/>
              <a:gdLst/>
              <a:ahLst/>
              <a:rect l="l" t="t" r="r" b="b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572680" y="3544920"/>
              <a:ext cx="250560" cy="239760"/>
            </a:xfrm>
            <a:custGeom>
              <a:avLst/>
              <a:gdLst/>
              <a:ahLst/>
              <a:rect l="l" t="t" r="r" b="b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2666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How Do I Get Out of Here?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isions and Diploma Op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Students with Disa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Flori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Confounded" descr=""/>
          <p:cNvPicPr/>
          <p:nvPr/>
        </p:nvPicPr>
        <p:blipFill>
          <a:blip r:embed="rId1"/>
          <a:stretch/>
        </p:blipFill>
        <p:spPr>
          <a:xfrm>
            <a:off x="3809880" y="0"/>
            <a:ext cx="1359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Options for All Student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e of Florida diploma (G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 18 or older unless special circumstances app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 parts to GED t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some districts, GED exit option appl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sing score on GED t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sing score in FC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ents receive district high school diploma and State of Florida high school diplo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Options for All Student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r Certificate of Comple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students who do not earn the required grade point aver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students who do not earn a passing score on the FC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e: Students may take College Placement Test and enroll in credit or remedial courses at community colle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Additional Options for Students with Disabilitie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andard Diploma with FCAT waiver or exem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gular or Special Certificate of Completion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pecial Diploma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nshine State Standards for Special Diplo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*3 year, 18 credit programs ar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available to students choosing these op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Certificate of Completion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s with disabilities who are eligible for regular certificate of completion may obtain special diploma, option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al certificate of completion is available for students who do not master the Sunshine State Standards for Special Diplo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s with disabilities have the right to continue working toward a standard diploma until age 2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987640"/>
            <a:ext cx="77724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Accountability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Overwhelmed" descr=""/>
          <p:cNvPicPr/>
          <p:nvPr/>
        </p:nvPicPr>
        <p:blipFill>
          <a:blip r:embed="rId1"/>
          <a:stretch/>
        </p:blipFill>
        <p:spPr>
          <a:xfrm>
            <a:off x="6400800" y="2743200"/>
            <a:ext cx="246204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1280" y="304920"/>
            <a:ext cx="88027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FCAT Alternative Assessment - For All Student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82160" y="1752120"/>
            <a:ext cx="881388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ndard Diploma- students who attain scores on the ACT or SAT which equate to passing scores on the grade 10 FCAT will satisfy the assessment requirement for gradu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s are required to take the FCAT a total of three times in order to use the scores on the SAT or ACT as a substitution, unless new to Florida school in 12th gra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ly legislated for 2003-04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FCA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icipation in assessment is mandated of all students by state la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a very small number of students, a special exemption may be requested if a student’s scores will reflect sensory, manual or speaking disability rather than achie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277560"/>
            <a:ext cx="822024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Exemption from FCAT Requirement </a:t>
            </a:r>
            <a:br>
              <a:rPr sz="4000"/>
            </a:b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for Graduation with a Standard Diploma</a:t>
            </a: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2285640"/>
            <a:ext cx="8764560" cy="383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Rule 6A-1.09431, FAC, exemption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criteria include extraordinary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circumstances when the results of the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FCAT would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3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reflect the student’s impaired sensory, manual, or speaking skills rather than the student’s achievement.”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81453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Extraordinary </a:t>
            </a: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Circumstances</a:t>
            </a:r>
            <a:r>
              <a:rPr b="0" lang="en-US" sz="4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99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physical conditions that affect the student’s ability to communicate in modes that are acceptable through accommodations provided for the statewide test.”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71080" y="635040"/>
            <a:ext cx="782316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Requests for Exemption...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mmissioner of Education will determine if more documentation is needed and may request additional information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mmissioner of Education will determine if criteria have been met, and may grant the request for exemption from one or both parts of the FC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Today’s Topic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7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ransition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ploma options for all studen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itional diploma options for students with disa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unt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CAT and FCAT waiv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ernate assess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co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73200" y="539640"/>
            <a:ext cx="76788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...Requests for Exemption...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4600" y="1758960"/>
            <a:ext cx="8728200" cy="42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Students who are granted a request must still meet all other requirements for graduation with a standard diploma.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ts val="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Students who are not granted a request and who have not shown mastery of FCAT skills are eligible for FAPE until age 22.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4240" y="471600"/>
            <a:ext cx="7332480" cy="9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.</a:t>
            </a: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..Requests for Exemption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Students with disabilities who do </a:t>
            </a: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 meet requirements for a standard diploma may be eligible for an FCAT waiver, a certificate of completion or a special diploma.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371600"/>
            <a:ext cx="8229600" cy="18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HB 1739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914400" y="32763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Enhanced New Needed Opportunity for Better Life &amp; Education for Students with Disabilities (ENNOBL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Definition of Student with a Disability 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(s. 1007.02(2), F.S.)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ntal retard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earing impairment, including deaf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eech or language impair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isual impairment, including blind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rious emotional disturbance, including an emotional handic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 orthopedic impairment (including other health impairment or physical impair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utis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traumatic brain inju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ecific learning disability, including, but not limited to, dyslexia, dyscalculia, or developmental aphas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ENNOBLES</a:t>
            </a: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(s. 1003.43 F. S.)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hool districts must provide instruction to prepare students with disabilities to demonstrate proficiency in the skills and competencies necessary for successful grade-to-grade progression and high school gradu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ENNOBLES</a:t>
            </a:r>
            <a:br>
              <a:rPr sz="3600"/>
            </a:b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FCAT Waiver Eligibility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s with disa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have an IE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are seniors or who remain enrolled under IDEA seeking a standard diplo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have shown mastery of Grade 10 Sunshine State Stand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are progressing toward meeting the graduation requirement of 24 academic credits with a 2.0 or higher grade point average and any other district requir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9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ENNOBLES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  </a:t>
            </a:r>
            <a:br>
              <a:rPr sz="3200"/>
            </a:b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FCAT Waiver Eligibility</a:t>
            </a:r>
            <a:endParaRPr b="0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s with disa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have taken the FCAT at least once in the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rade and once in the 1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rade, but have not attained a passing sc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have participated in intensive remediation for FCAT Reading and/or FCAT Mathematics, if passing scores were not ear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9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ENNOBLES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  </a:t>
            </a:r>
            <a:br>
              <a:rPr sz="3200"/>
            </a:b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FCAT Waiver Eligibility</a:t>
            </a:r>
            <a:endParaRPr b="0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s with disa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have participated in the March FCAT administration in senior y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whom the IEP team determines that the FCAT cannot accurately measure the student’s abilities, taking into consideration all allowable accommod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219320" y="1676160"/>
            <a:ext cx="7238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9900"/>
                </a:solidFill>
                <a:latin typeface="Times New Roman"/>
              </a:rPr>
              <a:t>Current Criteria for Exclusion from FCAT and Use of Alternate Assessment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3640" y="344520"/>
            <a:ext cx="82375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9900"/>
                </a:solidFill>
                <a:latin typeface="Times New Roman"/>
              </a:rPr>
              <a:t>Current Criteria for Exclusion from State or District Assessments...</a:t>
            </a:r>
            <a:endParaRPr b="0" lang="en-US" sz="39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360" y="1827000"/>
            <a:ext cx="7692840" cy="434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o criteria for IEP team to decide 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clusion (Rule 6A-1.0943(a), FAC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e student’s demonstrated cognitive ability prevents completion of coursework and achieving the SSS, even with modifications </a:t>
            </a:r>
            <a:r>
              <a:rPr b="1" i="1" lang="en-US" sz="2700" spc="-1" strike="noStrike" u="sng">
                <a:solidFill>
                  <a:srgbClr val="ffffff"/>
                </a:solidFill>
                <a:uFillTx/>
                <a:latin typeface="Times New Roman"/>
              </a:rPr>
              <a:t>and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e student requires extensive direct instruction to learn competencies needed for domestic, community living, leisure, and vocational activitie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The Transition Proces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gins at age 14 (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rade) or earli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an annual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volves transition IEP te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s stud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ploma decisions (can be chang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ies needs in specific are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3137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...</a:t>
            </a: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Criteria for Exclusion from State or District Assessments</a:t>
            </a:r>
            <a:endParaRPr b="0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30592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s who are excluded must be assessed using an alternate assessment identified by the IEP te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s who are excluded from the 10th grade FCAT based on Rule 6A-1.0943(a), FAC, will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e eligible for a standard high school diplo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Special Diploma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s with disabilities have the right to continue working toward a standard diploma until age 22 (FAP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tion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d on mastery of Sunshine State Standards for Special Diplo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d number of cred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Special Diploma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tion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d on employment and community competen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based on mastery of Sunshine State Standards for Special Diplo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s successful employment for 1 semes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stery of annual goals and objectives related to employment and community competen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stery of competencies in training p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Alternate Assessmen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ision is made by the IEP te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ly used for students not receiving instruction in the Sunshine State Stand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s are generally working toward a special diplo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Outcome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Energized" descr=""/>
          <p:cNvPicPr/>
          <p:nvPr/>
        </p:nvPicPr>
        <p:blipFill>
          <a:blip r:embed="rId1"/>
          <a:stretch/>
        </p:blipFill>
        <p:spPr>
          <a:xfrm>
            <a:off x="3124080" y="2743200"/>
            <a:ext cx="290052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Outcome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s graduating with a standard diploma ma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ter the work fo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in the milit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end a post-secondary education institution, such 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ical cen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unity colle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vers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Outcome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s graduating with a special diploma ma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ter the work fo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sibly join the milit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sibly enroll in post-secondary education institutions, such a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ical cen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unity colle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ult basic education cla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Outcome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s graduating with a certificate of completion ma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sibly enter the work fo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sibly enroll in post-secondary education institutions, such 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ical cen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unity colle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ult basic education cla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Outcome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s graduating with a GED (State of Florida diploma) ma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ter the work fo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sibly join the milit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roll in post-secondary education institutions, such a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ical cen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unity colle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Points to Consider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t-secondary career go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icipation in extra-curricular acti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turity level of stud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kforce readi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ncial oblig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f-determ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The Transition Proces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des planning for cred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earning a minimum 2.0 grade point average for standard diplo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volves passing the FCAT (or obtaining a waiver) for standard diploma studen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Before….. and After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214" name="Confounded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2306880" cy="4657680"/>
          </a:xfrm>
          <a:prstGeom prst="rect">
            <a:avLst/>
          </a:prstGeom>
          <a:ln w="0">
            <a:noFill/>
          </a:ln>
        </p:spPr>
      </p:pic>
      <p:pic>
        <p:nvPicPr>
          <p:cNvPr id="215" name="Brave" descr=""/>
          <p:cNvPicPr/>
          <p:nvPr/>
        </p:nvPicPr>
        <p:blipFill>
          <a:blip r:embed="rId2"/>
          <a:stretch/>
        </p:blipFill>
        <p:spPr>
          <a:xfrm>
            <a:off x="4952880" y="914400"/>
            <a:ext cx="2897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385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Unanswered Questions?</a:t>
            </a:r>
            <a:br>
              <a:rPr sz="4400"/>
            </a:br>
            <a:br>
              <a:rPr sz="44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partment of Educa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ceptional Education and Student Servic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50/245-0478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r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elly.Claude@fldoe.org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Options for All Student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igh School Graduation Op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radit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-year, 24 credit traditional pr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cceler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-year, 18 credit college preparatory pr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-year, 18 credit career preparatory pr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S/SB 364- revised requirements to reflect course distribution and additional requirements for 3-year op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Options for All Student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82160" y="1294920"/>
            <a:ext cx="8813880" cy="48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S/SB 364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llege preparator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 6 of 18 credits must be honors, dual enrollment, AP, IB, Advanced International Certificate of Education, identified by DOE as rigorous, or weighted by districts for class ranking purpos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edi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 Englis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 Math at Algebra I or hig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 Natural sciences (2 lab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 Social science (1 American History, 1 World, 1/2 American Government, 1/2 economic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 Foreign language (sam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 Electi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Options for All Student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82160" y="1143000"/>
            <a:ext cx="881388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S/SB 364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areer preparator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Credi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 Englis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 Math (1 must be Algebra 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 Natural sciences (2 lab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 Social science (1 American History, 1 World, 1/2 American Govt., 1/2 economic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 Single vocational or career education program 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 career/ technical certificate dual enrollment courses, PL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 Electives  (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 credits in vocational or career education cour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Options for All Student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82160" y="1371240"/>
            <a:ext cx="8813880" cy="480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S/SB 364 requires a meeting with student and parents to explain the requirements, advantages and disadvantages of ea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S/SB 364 requires that students submit parental consent  for three-year op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S/SB 364 requires that students achieve a level 3 or higher on most recent FCAT (reading, math, writing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S/SB 364 requires choice by end of ninth gra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S/SB 364 requires 3.0 GPA for three-year op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Options for All Student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82160" y="1600200"/>
            <a:ext cx="8813880" cy="458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 grade 10 (and again in grade 11), student performance will be examined and students who are not meeting requirements will change back to the 4 year op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733920" y="4114800"/>
          <a:ext cx="2146320" cy="198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4114800"/>
                    <a:ext cx="2146320" cy="19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6T01:29:52Z</dcterms:created>
  <dc:creator>FL DOE/BISCS</dc:creator>
  <dc:description/>
  <dc:language>en-US</dc:language>
  <cp:lastModifiedBy>Kelly Claude</cp:lastModifiedBy>
  <cp:lastPrinted>2004-05-19T15:54:32Z</cp:lastPrinted>
  <dcterms:modified xsi:type="dcterms:W3CDTF">2004-05-19T15:54:43Z</dcterms:modified>
  <cp:revision>30</cp:revision>
  <dc:subject/>
  <dc:title>Getting the Best Fit</dc:title>
</cp:coreProperties>
</file>